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273B6-73A8-4609-ACB1-FDCD3E164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BD814-2390-4F30-AC18-011F1EDAD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BC224-F269-4AF3-8AF7-63694786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43FAA-052E-458B-81E8-D2A155993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6F54F-858B-45CE-8FE4-7965732A3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6A61D-49B5-4ED4-84CB-88EE05BE9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D9E0C-89E7-45FC-8620-59D1A592D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B2B7D-7729-44B5-9086-EB1F95AD0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7BEEF-567D-43A7-8DAB-A6366DF77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1686C-A1BB-483A-A0B1-21693CE96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2EFE1-E235-4C01-A1BD-71DA013B8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6624-E671-4CCD-8359-898E3569C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1816-EF2D-4F30-8184-B93F63907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87C83-8631-40D0-B186-83707F7A6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7FB71-A641-464B-94E2-82B0452DF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96FE5-50A5-4D97-8F4D-91B3EA233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ECB17-C112-4980-9011-51D081F6F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6EE6-D986-4E05-8E8B-6594EEAE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8181D-9293-4E29-8935-58326858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49186-4A80-49E4-8009-3A8B452CD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2ACD-1FFB-452C-8878-65DA60AF5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DF7E-B0C4-43A7-8757-DC3C81853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FC65-124F-483C-B87E-FF315CD8A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AF2A-056F-49C3-BF1B-3E8B2E645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04FF-0FB7-4E6F-A099-18545BEC9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AAD4-ADFE-4457-A49E-F43A4155FC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z.about.com/d/architecture/1/0/t/H/baghdad-grunberg.jpg"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upload.wikimedia.org/wikipedia/commons/e/e1/ClimateBaghdadIraq.PNG&amp;imgrefurl=http://commons.wikimedia.org/wiki/File:ClimateBaghdadIraq.PNG&amp;usg=__DpwUbJzc7AQRACePxGML3wREcJM=&amp;h=450&amp;w=450&amp;sz=4&amp;hl=en&amp;start=1&amp;tbnid=Utr74MfZC2xkjM:&amp;tbnh=127&amp;tbnw=127&amp;prev=/images%3Fq%3Dclimate%2Bin%2Biraq%26gbv%3D2%26hl%3Den%26safe%3Dactive"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arcent.army.mil/cflcc_today/2005/may/images/may12_25/11.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PlaceHolder 1"/>
          <p:cNvSpPr>
            <a:spLocks noGrp="1"/>
          </p:cNvSpPr>
          <p:nvPr>
            <p:ph type="title"/>
          </p:nvPr>
        </p:nvSpPr>
        <p:spPr>
          <a:xfrm>
            <a:off x="762120" y="2590560"/>
            <a:ext cx="1828800" cy="669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ff33"/>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y: Katie Boyer and Dallas Street</a:t>
            </a:r>
            <a:endParaRPr b="0" lang="en-US" sz="3200" spc="-1" strike="noStrike">
              <a:solidFill>
                <a:srgbClr val="ffffff"/>
              </a:solidFill>
              <a:latin typeface="Arial"/>
            </a:endParaRPr>
          </a:p>
        </p:txBody>
      </p:sp>
      <p:sp>
        <p:nvSpPr>
          <p:cNvPr id="214" name=""/>
          <p:cNvSpPr txBox="1"/>
          <p:nvPr/>
        </p:nvSpPr>
        <p:spPr>
          <a:xfrm>
            <a:off x="228600" y="0"/>
            <a:ext cx="2209680" cy="2590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Arial Black"/>
              </a:rPr>
              <a:t>Iraq</a:t>
            </a:r>
            <a:endParaRPr b="0" lang="en-US" sz="4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 descr="View of Baghdad and the Tigris River ">
            <a:hlinkClick r:id="rId1"/>
          </p:cNvPr>
          <p:cNvPicPr/>
          <p:nvPr/>
        </p:nvPicPr>
        <p:blipFill>
          <a:blip r:embed="rId2"/>
          <a:stretch/>
        </p:blipFill>
        <p:spPr>
          <a:xfrm>
            <a:off x="0" y="0"/>
            <a:ext cx="9144000" cy="6858000"/>
          </a:xfrm>
          <a:prstGeom prst="rect">
            <a:avLst/>
          </a:prstGeom>
          <a:ln w="0">
            <a:noFill/>
          </a:ln>
        </p:spPr>
      </p:pic>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Culture Cont.</a:t>
            </a:r>
            <a:endParaRPr b="0" lang="en-US"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uilding styles are :easily built adobe styled hou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ghdad is a sprawling city with wide roads to accommodate heavy traffi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572000" y="0"/>
            <a:ext cx="4572000" cy="6858000"/>
          </a:xfrm>
          <a:prstGeom prst="rect">
            <a:avLst/>
          </a:prstGeom>
          <a:ln w="0">
            <a:noFill/>
          </a:ln>
        </p:spPr>
      </p:pic>
      <p:pic>
        <p:nvPicPr>
          <p:cNvPr id="244" name="" descr=""/>
          <p:cNvPicPr/>
          <p:nvPr/>
        </p:nvPicPr>
        <p:blipFill>
          <a:blip r:embed="rId2"/>
          <a:stretch/>
        </p:blipFill>
        <p:spPr>
          <a:xfrm>
            <a:off x="0" y="0"/>
            <a:ext cx="4572000" cy="6858000"/>
          </a:xfrm>
          <a:prstGeom prst="rect">
            <a:avLst/>
          </a:prstGeom>
          <a:ln w="0">
            <a:noFill/>
          </a:ln>
        </p:spPr>
      </p:pic>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Places to visit</a:t>
            </a:r>
            <a:endParaRPr b="0" lang="en-US" sz="4400" spc="-1" strike="noStrike">
              <a:solidFill>
                <a:srgbClr val="ccecff"/>
              </a:solidFill>
              <a:latin typeface="Arial"/>
            </a:endParaRPr>
          </a:p>
        </p:txBody>
      </p:sp>
      <p:sp>
        <p:nvSpPr>
          <p:cNvPr id="246"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aghdad is the capital of Iraq and the Baghdad province. It is situated on the River Tigris at a position where the Tigris is about 50 kilometers from the Euphrates River.</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here are a lot of historical things that happened in Baghdad Iraq such as the current war which is know as the second gulf w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58000"/>
          </a:xfrm>
          <a:prstGeom prst="rect">
            <a:avLst/>
          </a:prstGeom>
          <a:ln w="0">
            <a:noFill/>
          </a:ln>
        </p:spPr>
      </p:pic>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Work cited</a:t>
            </a:r>
            <a:endParaRPr b="0" lang="en-US" sz="4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ff33"/>
                </a:solidFill>
                <a:latin typeface="Arial"/>
              </a:rPr>
              <a:t>www.</a:t>
            </a:r>
            <a:r>
              <a:rPr b="1" i="1" lang="en-US" sz="3200" spc="-1" strike="noStrike">
                <a:solidFill>
                  <a:srgbClr val="99ff33"/>
                </a:solidFill>
                <a:latin typeface="Arial"/>
              </a:rPr>
              <a:t>places</a:t>
            </a:r>
            <a:r>
              <a:rPr b="0" i="1" lang="en-US" sz="3200" spc="-1" strike="noStrike">
                <a:solidFill>
                  <a:srgbClr val="99ff33"/>
                </a:solidFill>
                <a:latin typeface="Arial"/>
              </a:rPr>
              <a:t>online.com/asia/</a:t>
            </a:r>
            <a:r>
              <a:rPr b="1" i="1" lang="en-US" sz="3200" spc="-1" strike="noStrike">
                <a:solidFill>
                  <a:srgbClr val="99ff33"/>
                </a:solidFill>
                <a:latin typeface="Arial"/>
              </a:rPr>
              <a:t>iraq</a:t>
            </a:r>
            <a:r>
              <a:rPr b="0" i="1" lang="en-US" sz="3200" spc="-1" strike="noStrike">
                <a:solidFill>
                  <a:srgbClr val="99ff33"/>
                </a:solidFill>
                <a:latin typeface="Arial"/>
              </a:rPr>
              <a:t>/</a:t>
            </a:r>
            <a:r>
              <a:rPr b="1" i="1" lang="en-US" sz="3200" spc="-1" strike="noStrike">
                <a:solidFill>
                  <a:srgbClr val="99ff33"/>
                </a:solidFill>
                <a:latin typeface="Arial"/>
              </a:rPr>
              <a:t>places</a:t>
            </a:r>
            <a:r>
              <a:rPr b="0" i="1" lang="en-US" sz="3200" spc="-1" strike="noStrike">
                <a:solidFill>
                  <a:srgbClr val="99ff33"/>
                </a:solidFill>
                <a:latin typeface="Arial"/>
              </a:rPr>
              <a:t>.asp - 34k</a:t>
            </a:r>
            <a:r>
              <a:rPr b="0" lang="en-US" sz="3200" spc="-1" strike="noStrike">
                <a:solidFill>
                  <a:srgbClr val="99ff33"/>
                </a:solidFill>
                <a:latin typeface="Arial"/>
              </a:rPr>
              <a:t> </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ff33"/>
                </a:solidFill>
                <a:latin typeface="Arial"/>
              </a:rPr>
              <a:t>architecture</a:t>
            </a:r>
            <a:r>
              <a:rPr b="0" i="1" lang="en-US" sz="3200" spc="-1" strike="noStrike">
                <a:solidFill>
                  <a:srgbClr val="99ff33"/>
                </a:solidFill>
                <a:latin typeface="Arial"/>
              </a:rPr>
              <a:t>.about.com/od/themiddleeast/ig/</a:t>
            </a:r>
            <a:r>
              <a:rPr b="1" i="1" lang="en-US" sz="3200" spc="-1" strike="noStrike">
                <a:solidFill>
                  <a:srgbClr val="99ff33"/>
                </a:solidFill>
                <a:latin typeface="Arial"/>
              </a:rPr>
              <a:t>Iraq</a:t>
            </a:r>
            <a:r>
              <a:rPr b="0" i="1" lang="en-US" sz="3200" spc="-1" strike="noStrike">
                <a:solidFill>
                  <a:srgbClr val="99ff33"/>
                </a:solidFill>
                <a:latin typeface="Arial"/>
              </a:rPr>
              <a:t>-Photos/Baghdad-Skyline-.htm - 17k</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 </a:t>
            </a:r>
            <a:r>
              <a:rPr b="0" lang="en-US" sz="3200" spc="-1" strike="noStrike">
                <a:solidFill>
                  <a:srgbClr val="99ff33"/>
                </a:solidFill>
                <a:latin typeface="Arial"/>
              </a:rPr>
              <a:t>https://www.cia.gov/library/publications/the-world-factbook/print/iz.html </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www.google.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The Land Of Iraq</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capital of Iraq is Bagh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area of Iraq is 438,317 sq km and 169,235 sq mil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Iraq’s landforms include: caves, mountains, waterfalls, lakes, peninsulas, and rivers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Iraq’s water systems include: construction of irrigation for farm land, new water supply dams, repair of existing dams and pump st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Iraq’s Land continued</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Iraq’s natural resources include: Petroleum, natural gas, phosphates, and sulf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1" name="" descr="">
            <a:hlinkClick r:id="rId1"/>
          </p:cNvP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Iraq’s Climate/ Vegetation</a:t>
            </a:r>
            <a:endParaRPr b="0" lang="en-US" sz="4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emperature in Iraq range from higher than 48</a:t>
            </a:r>
            <a:r>
              <a:rPr b="0" lang="en-US" sz="3200" spc="-1" strike="noStrike">
                <a:solidFill>
                  <a:srgbClr val="99ff33"/>
                </a:solidFill>
                <a:latin typeface="Arial"/>
                <a:ea typeface="Arial"/>
              </a:rPr>
              <a:t>ºC in July and August and below freezing in Januar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ea typeface="Arial"/>
              </a:rPr>
              <a:t>Iraq’s vegetation is grilled eggplant slices, lentil-bulgur loaf, Spinish, tofu, manicotti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ea typeface="Arial"/>
              </a:rPr>
              <a:t>Iraqi Taghri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Iraq’s Government</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Since July 2008 the population in Iraq is 28,221,18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government type in Iraq is Parliamentary Democrac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The life expectancy in Iraq at birth is: total population 69.62 years, males:68.32 years, and females: 70.99 year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Political leaders in Iraq are: Saddam Hussein, the prime minister is  Nuri al-Maliki</a:t>
            </a:r>
            <a:r>
              <a:rPr b="0" lang="en-US" sz="2800" spc="-1" strike="noStrike">
                <a:solidFill>
                  <a:srgbClr val="ffffff"/>
                </a:solidFill>
                <a:latin typeface="Arial"/>
              </a:rPr>
              <a:t> </a:t>
            </a:r>
            <a:r>
              <a:rPr b="0" lang="en-US" sz="2800" spc="-1" strike="noStrike">
                <a:solidFill>
                  <a:srgbClr val="99ff33"/>
                </a:solidFill>
                <a:latin typeface="Arial"/>
              </a:rPr>
              <a:t> since may 20</a:t>
            </a:r>
            <a:r>
              <a:rPr b="0" lang="en-US" sz="2800" spc="-1" strike="noStrike" baseline="30000">
                <a:solidFill>
                  <a:srgbClr val="99ff33"/>
                </a:solidFill>
                <a:latin typeface="Arial"/>
              </a:rPr>
              <a:t>th</a:t>
            </a:r>
            <a:r>
              <a:rPr b="0" lang="en-US" sz="2800" spc="-1" strike="noStrike">
                <a:solidFill>
                  <a:srgbClr val="99ff33"/>
                </a:solidFill>
                <a:latin typeface="Arial"/>
              </a:rPr>
              <a:t>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History </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On April 28,1937 Saddam Hussein former dictator of Iraq was bor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On May 2,1953 Iraq, Turkey, Britain, Pakistan, and Iran signed a treaty pledging economic and military cooperation. This agreement was technically canted central treaty organization but became more popularly known as the” Baghdad P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Current Event</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a:t>
            </a:r>
            <a:r>
              <a:rPr b="0" lang="en-US" sz="2400" spc="-1" strike="noStrike">
                <a:solidFill>
                  <a:srgbClr val="99ff33"/>
                </a:solidFill>
                <a:latin typeface="Arial"/>
              </a:rPr>
              <a:t>Bush in Vietnam warning over Iraq” and it came off BBC news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In August 27,2007 President George W. Bush has warned a US withdrawal from Iraq could trigger the kind of upheaval seen in South East Asia after US forces quit Vietnam. Mr. Bush believes that Mr. Maliki is the right person to lead Iraq. Mr. Bush said that the Vietnam war had taught the need for US patience over Iraq. Over three decades later there is a legitimate debate about how we got into the Vietnam war and how we lef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At least 24 people were killed and 50 people were injured when a suicide bomber rammed a fuel tanker into a police station in the Northern oil in the city of Baij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3" name="" descr="See full size image">
            <a:hlinkClick r:id="rId1"/>
          </p:cNvPr>
          <p:cNvPicPr/>
          <p:nvPr/>
        </p:nvPicPr>
        <p:blipFill>
          <a:blip r:embed="rId2"/>
          <a:stretch/>
        </p:blipFill>
        <p:spPr>
          <a:xfrm>
            <a:off x="0" y="0"/>
            <a:ext cx="9144000" cy="6858000"/>
          </a:xfrm>
          <a:prstGeom prst="rect">
            <a:avLst/>
          </a:prstGeom>
          <a:ln w="0">
            <a:noFill/>
          </a:ln>
        </p:spPr>
      </p:pic>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Economy</a:t>
            </a:r>
            <a:r>
              <a:rPr b="0" lang="en-US" sz="4400" spc="-1" strike="noStrike">
                <a:solidFill>
                  <a:srgbClr val="99ff33"/>
                </a:solidFill>
                <a:latin typeface="Arial"/>
              </a:rPr>
              <a:t>	</a:t>
            </a:r>
            <a:endParaRPr b="0" lang="en-US" sz="4400" spc="-1" strike="noStrike">
              <a:solidFill>
                <a:srgbClr val="ccecff"/>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 </a:t>
            </a:r>
            <a:r>
              <a:rPr b="0" lang="en-US" sz="2800" spc="-1" strike="noStrike">
                <a:solidFill>
                  <a:srgbClr val="99ff33"/>
                </a:solidFill>
                <a:latin typeface="Arial Unicode MS"/>
              </a:rPr>
              <a:t>Building strong partnership  based on trust, integration, and mutual benefits between our state companies and well know international enterprises and businessmen o create stockholding and limited liability compani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The major export in Iraq is oil which is the most exported goo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The currency in Iraq: 1 US dollar = 1187.00 Iraqi Din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Unicode MS"/>
              </a:rPr>
              <a:t>The literacy rate in Iraq is: </a:t>
            </a:r>
            <a:r>
              <a:rPr b="0" lang="en-US" sz="2800" spc="-1" strike="noStrike">
                <a:solidFill>
                  <a:srgbClr val="99ff33"/>
                </a:solidFill>
                <a:latin typeface="Arial"/>
              </a:rPr>
              <a:t>40.4%</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23880" y="5029200"/>
            <a:ext cx="7620120" cy="1828800"/>
          </a:xfrm>
          <a:prstGeom prst="rect">
            <a:avLst/>
          </a:prstGeom>
          <a:ln w="0">
            <a:noFill/>
          </a:ln>
        </p:spPr>
      </p:pic>
      <p:pic>
        <p:nvPicPr>
          <p:cNvPr id="237" name="" descr=""/>
          <p:cNvPicPr/>
          <p:nvPr/>
        </p:nvPicPr>
        <p:blipFill>
          <a:blip r:embed="rId2"/>
          <a:stretch/>
        </p:blipFill>
        <p:spPr>
          <a:xfrm>
            <a:off x="0" y="0"/>
            <a:ext cx="9144000" cy="5038560"/>
          </a:xfrm>
          <a:prstGeom prst="rect">
            <a:avLst/>
          </a:prstGeom>
          <a:ln w="0">
            <a:noFill/>
          </a:ln>
        </p:spPr>
      </p:pic>
      <p:sp>
        <p:nvSpPr>
          <p:cNvPr id="2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Iraq’s dress code is: lots of jewelry, cloak covered the upper body, wrap around skirts that were made out of sheepskin,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he food that is in Iraq is beef with fruit, kebabs, yalanchi ( tomatoes stuffed with ric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The language that is spoken in Iraq is Arabic</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33"/>
                </a:solidFill>
                <a:latin typeface="Arial"/>
              </a:rPr>
              <a:t>Building styles are-</a:t>
            </a:r>
            <a:endParaRPr b="0" lang="en-US" sz="3200" spc="-1" strike="noStrike">
              <a:solidFill>
                <a:srgbClr val="ffffff"/>
              </a:solidFill>
              <a:latin typeface="Arial"/>
            </a:endParaRPr>
          </a:p>
        </p:txBody>
      </p:sp>
      <p:sp>
        <p:nvSpPr>
          <p:cNvPr id="23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33"/>
                </a:solidFill>
                <a:latin typeface="Arial"/>
              </a:rPr>
              <a:t>Cultur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08:02Z</dcterms:created>
  <dc:creator>katielboyer</dc:creator>
  <dc:description/>
  <dc:language>en-US</dc:language>
  <cp:lastModifiedBy>katielboyer</cp:lastModifiedBy>
  <dcterms:modified xsi:type="dcterms:W3CDTF">2009-02-20T17:12:59Z</dcterms:modified>
  <cp:revision>9</cp:revision>
  <dc:subject/>
  <dc:title>Iraq</dc:title>
</cp:coreProperties>
</file>